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push.wav" ContentType="audio/x-wav"/>
  <Override PartName="/ppt/media/image8.jpeg" ContentType="image/jpeg"/>
  <Override PartName="/ppt/media/image5.png" ContentType="image/png"/>
  <Override PartName="/ppt/media/image10.jpeg" ContentType="image/jpeg"/>
  <Override PartName="/ppt/media/chimes.wav" ContentType="audio/x-wav"/>
  <Override PartName="/ppt/media/wind.wav" ContentType="audio/x-wav"/>
  <Override PartName="/ppt/media/image16.jpeg" ContentType="image/jpeg"/>
  <Override PartName="/ppt/media/bomb.wav" ContentType="audio/x-wav"/>
  <Override PartName="/ppt/media/explode.wav" ContentType="audio/x-wav"/>
  <Override PartName="/ppt/media/camera.wav" ContentType="audio/x-wav"/>
  <Override PartName="/ppt/media/image7.jpeg" ContentType="image/jpeg"/>
  <Override PartName="/ppt/media/image6.png" ContentType="image/png"/>
  <Override PartName="/ppt/media/applause.wav" ContentType="audio/x-wav"/>
  <Override PartName="/ppt/media/drumroll.wav" ContentType="audio/x-wav"/>
  <Override PartName="/ppt/media/image15.jpeg" ContentType="image/jpeg"/>
  <Override PartName="/ppt/media/type.wav" ContentType="audio/x-wav"/>
  <Override PartName="/ppt/media/image14.jpeg" ContentType="image/jpeg"/>
  <Override PartName="/ppt/media/image13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951663" cy="9169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805C-BFD0-44B9-A1A8-DE64304CA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59CB-7DB8-441F-9465-DFC4B6CE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834E-435D-42F3-AA23-B3FEE1162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81A1-EAF2-4312-9F65-3F007E881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1D07-CB2D-4FC0-B272-F7E339FD6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46F2-29BC-4068-806D-711ED184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F7CD-E037-4E39-85B7-B71C44FC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5AC5-BD3B-43EA-BF0C-AAB76A95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C645-E452-4BC8-B237-F48E9044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C639-D444-4DD7-8E03-8B43047C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A1B99-78E0-4A17-81FE-63C9CAD7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F162-FB1C-40AD-B110-E10A6817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4039-B82B-40A1-8FF4-7D9A9FF6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BA2C-740A-4B66-BCAA-B5D822E2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F967-FA8C-46AD-ADD5-9E6525BD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80D28-8088-458C-9A17-B00437786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B8AE7-4993-4A8A-9B4F-295C914CC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804CE-D6B6-4C05-916D-089F995E6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771D4-8462-4FEC-984F-3940D732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9F021-4F4E-447F-BC61-8F76D382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898CB-6B5D-41B2-830B-B3556684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2C32C-2714-4BE2-AC15-B75684F2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60CF-913F-4BFC-A847-8A7C6FDD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0D3CD-37F6-4A08-9F4A-5120CDF6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40DE8-7667-4F97-B930-EC9DDE0A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8CE86-05AE-45A8-A07D-C90E2FE8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70544-0B24-4BC9-BD32-4F132A42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A03D0-C926-4C15-99CD-AB4F67C4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732EC-9B0D-463B-9361-8493BC467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28F58-A74C-488A-AC5F-D4A79C9CE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6AC2E-50B8-4647-B2F1-EEE96C1F6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FD567-98F9-4764-91C7-06DCADC8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B0CF0-7AD7-4174-8CB7-B4581AAC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2D43-BCC2-4E70-BDCC-2030F16C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DCCFC-4037-451F-B5DA-6C917FCF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22D68-C307-403F-8A24-5A278C4D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96C29-3037-4A60-A76B-FF9A4AF8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FEA7A-93C7-4526-B1C9-028C67C6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AA470-5EB2-402B-B024-2411F440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870FB-4F1B-454F-B7A4-D57010B3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EF08F-E233-4645-A68C-9A7C2992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ACD6B-F585-4CC5-8954-D3DF2A425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3F919-33F6-4A2E-8E6F-665F9F9DB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435B-1B21-4AC6-890D-D8F99702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5A3B-84C4-41AA-8246-C2923077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FBC1-4F00-4A46-84F1-BCF41A69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77CA-0293-4F4E-B459-75FC915A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D44D-2AA3-4877-9246-4571057F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9407-7328-4E87-B95A-2F2A3721EC8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C14F-32FA-4E52-B97C-D2F11201094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290C-8202-4430-9F0A-ADAFC301DEB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907E-37BA-4876-A7B4-15CAC89C160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786456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MP 23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y Catherine Butch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mbridge Colleg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361960" y="380880"/>
            <a:ext cx="472428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00000"/>
                </a:solidFill>
                <a:latin typeface="Curlz MT"/>
              </a:rPr>
              <a:t>Easy as ABC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3048120" cy="9144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686d"/>
                </a:solidFill>
                <a:latin typeface="Comic Sans MS"/>
              </a:rPr>
              <a:t>Try the alphabe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Content Placeholder 12" descr="Joshy, Heather, and Brandyn and Mommy (Brandyn's Grad) 014.jpg"/>
          <p:cNvPicPr/>
          <p:nvPr/>
        </p:nvPicPr>
        <p:blipFill>
          <a:blip r:embed="rId1"/>
          <a:stretch/>
        </p:blipFill>
        <p:spPr>
          <a:xfrm>
            <a:off x="3575160" y="2259000"/>
            <a:ext cx="5111640" cy="3406680"/>
          </a:xfrm>
          <a:prstGeom prst="rect">
            <a:avLst/>
          </a:prstGeom>
          <a:ln w="0">
            <a:noFill/>
          </a:ln>
        </p:spPr>
      </p:pic>
      <p:sp>
        <p:nvSpPr>
          <p:cNvPr id="219" name="Text Placeholder 11"/>
          <p:cNvSpPr/>
          <p:nvPr/>
        </p:nvSpPr>
        <p:spPr>
          <a:xfrm>
            <a:off x="457200" y="3124080"/>
            <a:ext cx="28195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686d"/>
                </a:solidFill>
                <a:latin typeface="Comic Sans MS"/>
              </a:rPr>
              <a:t>The sign for “C” is made with a half circle on one h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Placeholder 11"/>
          <p:cNvSpPr/>
          <p:nvPr/>
        </p:nvSpPr>
        <p:spPr>
          <a:xfrm>
            <a:off x="533520" y="5562720"/>
            <a:ext cx="3352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686d"/>
                </a:solidFill>
                <a:latin typeface="Comic Sans MS"/>
              </a:rPr>
              <a:t>Easy for kids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686d"/>
                </a:solidFill>
                <a:latin typeface="Comic Sans MS"/>
              </a:rPr>
              <a:t>You can do it to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0" lang="en-US" sz="5000" spc="-1" strike="noStrike">
                <a:solidFill>
                  <a:srgbClr val="04617b"/>
                </a:solidFill>
                <a:latin typeface="Curlz MT"/>
              </a:rPr>
              <a:t>Simple Signs   </a:t>
            </a:r>
            <a:br>
              <a:rPr sz="5000"/>
            </a:br>
            <a:r>
              <a:rPr b="0" lang="en-US" sz="5000" spc="-1" strike="noStrike">
                <a:solidFill>
                  <a:srgbClr val="04617b"/>
                </a:solidFill>
                <a:latin typeface="Comic Sans MS"/>
              </a:rPr>
              <a:t>  </a:t>
            </a:r>
            <a:br>
              <a:rPr sz="5000"/>
            </a:br>
            <a:r>
              <a:rPr b="0" lang="en-US" sz="3200" spc="-1" strike="noStrike">
                <a:solidFill>
                  <a:srgbClr val="04617b"/>
                </a:solidFill>
                <a:latin typeface="Comic Sans MS"/>
              </a:rPr>
              <a:t>The sign for “more”</a:t>
            </a:r>
            <a:r>
              <a:rPr b="0" lang="en-US" sz="3200" spc="-1" strike="noStrike">
                <a:solidFill>
                  <a:srgbClr val="04617b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4617b"/>
                </a:solidFill>
                <a:latin typeface="Comic Sans MS"/>
              </a:rPr>
              <a:t>The sign for “Eat”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Content Placeholder 6" descr="CIMG1629.JPG"/>
          <p:cNvPicPr/>
          <p:nvPr/>
        </p:nvPicPr>
        <p:blipFill>
          <a:blip r:embed="rId1"/>
          <a:stretch/>
        </p:blipFill>
        <p:spPr>
          <a:xfrm>
            <a:off x="457200" y="3429000"/>
            <a:ext cx="4038480" cy="2971800"/>
          </a:xfrm>
          <a:prstGeom prst="rect">
            <a:avLst/>
          </a:prstGeom>
          <a:ln w="0">
            <a:noFill/>
          </a:ln>
        </p:spPr>
      </p:pic>
      <p:pic>
        <p:nvPicPr>
          <p:cNvPr id="223" name="Content Placeholder 7" descr="CIMG1639.JPG"/>
          <p:cNvPicPr/>
          <p:nvPr/>
        </p:nvPicPr>
        <p:blipFill>
          <a:blip r:embed="rId2"/>
          <a:stretch/>
        </p:blipFill>
        <p:spPr>
          <a:xfrm>
            <a:off x="4876920" y="33526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3" name="wind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3059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0" lang="en-US" sz="5000" spc="-1" strike="noStrike">
                <a:solidFill>
                  <a:srgbClr val="f18a23"/>
                </a:solidFill>
                <a:latin typeface="Comic Sans MS"/>
              </a:rPr>
              <a:t>Now It’s Your Turn</a:t>
            </a:r>
            <a:br>
              <a:rPr sz="1600"/>
            </a:br>
            <a:br>
              <a:rPr sz="1600"/>
            </a:br>
            <a:r>
              <a:rPr b="0" lang="en-US" sz="2800" spc="-1" strike="noStrike">
                <a:solidFill>
                  <a:srgbClr val="04617b"/>
                </a:solidFill>
                <a:latin typeface="Comic Sans MS"/>
              </a:rPr>
              <a:t>Try these easy signs for “</a:t>
            </a:r>
            <a:r>
              <a:rPr b="0" lang="en-US" sz="2800" spc="-1" strike="noStrike">
                <a:solidFill>
                  <a:srgbClr val="f18a23"/>
                </a:solidFill>
                <a:latin typeface="Comic Sans MS"/>
              </a:rPr>
              <a:t>FRIEND</a:t>
            </a:r>
            <a:r>
              <a:rPr b="0" lang="en-US" sz="2800" spc="-1" strike="noStrike">
                <a:solidFill>
                  <a:srgbClr val="04617b"/>
                </a:solidFill>
                <a:latin typeface="Comic Sans MS"/>
              </a:rPr>
              <a:t>” and “</a:t>
            </a:r>
            <a:r>
              <a:rPr b="0" lang="en-US" sz="2800" spc="-1" strike="noStrike">
                <a:solidFill>
                  <a:srgbClr val="f18a23"/>
                </a:solidFill>
                <a:latin typeface="Comic Sans MS"/>
              </a:rPr>
              <a:t>AGAIN</a:t>
            </a:r>
            <a:r>
              <a:rPr b="0" lang="en-US" sz="2800" spc="-1" strike="noStrike">
                <a:solidFill>
                  <a:srgbClr val="04617b"/>
                </a:solidFill>
                <a:latin typeface="Comic Sans MS"/>
              </a:rPr>
              <a:t>”</a:t>
            </a:r>
            <a:br>
              <a:rPr sz="2800"/>
            </a:br>
            <a:r>
              <a:rPr b="0" lang="en-US" sz="2800" spc="-1" strike="noStrike">
                <a:solidFill>
                  <a:srgbClr val="04617b"/>
                </a:solidFill>
                <a:latin typeface="Comic Sans MS"/>
              </a:rPr>
              <a:t>while singing Adios Amigos </a:t>
            </a:r>
            <a:br>
              <a:rPr sz="2800"/>
            </a:br>
            <a:r>
              <a:rPr b="0" lang="en-US" sz="2800" spc="-1" strike="noStrike">
                <a:solidFill>
                  <a:srgbClr val="04617b"/>
                </a:solidFill>
                <a:latin typeface="Comic Sans MS"/>
              </a:rPr>
              <a:t>along with your presenter.</a:t>
            </a:r>
            <a:br>
              <a:rPr sz="2800"/>
            </a:br>
            <a:r>
              <a:rPr b="0" lang="en-US" sz="2800" spc="-1" strike="noStrike">
                <a:solidFill>
                  <a:srgbClr val="04617b"/>
                </a:solidFill>
                <a:latin typeface="Comic Sans MS"/>
              </a:rPr>
              <a:t>Remember:  If you don’t succeed, try, try again </a:t>
            </a:r>
            <a:r>
              <a:rPr b="0" lang="en-US" sz="2800" spc="-1" strike="noStrike">
                <a:solidFill>
                  <a:srgbClr val="04617b"/>
                </a:solidFill>
                <a:latin typeface="Wingdings"/>
                <a:ea typeface="Wingdings"/>
              </a:rPr>
              <a:t>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5" name="Content Placeholder 9" descr="CIMG1663.JPG"/>
          <p:cNvPicPr/>
          <p:nvPr/>
        </p:nvPicPr>
        <p:blipFill>
          <a:blip r:embed="rId1"/>
          <a:stretch/>
        </p:blipFill>
        <p:spPr>
          <a:xfrm>
            <a:off x="457200" y="350532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226" name="Content Placeholder 11" descr="CIMG1636.JPG"/>
          <p:cNvPicPr/>
          <p:nvPr/>
        </p:nvPicPr>
        <p:blipFill>
          <a:blip r:embed="rId2"/>
          <a:stretch/>
        </p:blipFill>
        <p:spPr>
          <a:xfrm>
            <a:off x="4724280" y="3505320"/>
            <a:ext cx="4038840" cy="302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520" y="1066680"/>
            <a:ext cx="2667240" cy="106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omic Sans MS"/>
              </a:rPr>
              <a:t>Great Job!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80520" y="2828520"/>
            <a:ext cx="297180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69000"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7026"/>
                </a:solidFill>
                <a:latin typeface="Comic Sans MS"/>
              </a:rPr>
              <a:t>Sign for “Great”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7026"/>
                </a:solidFill>
                <a:latin typeface="Comic Sans MS"/>
              </a:rPr>
              <a:t>Just throw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7026"/>
                </a:solidFill>
                <a:latin typeface="Comic Sans MS"/>
              </a:rPr>
              <a:t>your arm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7026"/>
                </a:solidFill>
                <a:latin typeface="Comic Sans MS"/>
              </a:rPr>
              <a:t>up in the air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7026"/>
                </a:solidFill>
                <a:latin typeface="Comic Sans MS"/>
              </a:rPr>
              <a:t>And don’t forget to smil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Placeholder 6" descr="CIMG1645.JPG"/>
          <p:cNvPicPr/>
          <p:nvPr/>
        </p:nvPicPr>
        <p:blipFill>
          <a:blip r:embed="rId1"/>
          <a:srcRect l="5932" t="0" r="5932" b="0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slow">
    <p:fade/>
    <p:sndAc>
      <p:stSnd>
        <p:snd r:embed="rId2" name="applaus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2590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f6fc6"/>
                </a:solidFill>
                <a:latin typeface="Curlz MT"/>
              </a:rPr>
              <a:t>SIGN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240" y="2285640"/>
            <a:ext cx="2590920" cy="39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360" rIns="1836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8a23"/>
                </a:solidFill>
                <a:latin typeface="Curlz MT"/>
              </a:rPr>
              <a:t>YOU’RE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8a23"/>
                </a:solidFill>
                <a:latin typeface="Curlz MT"/>
              </a:rPr>
              <a:t>ON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8a23"/>
                </a:solidFill>
                <a:latin typeface="Curlz MT"/>
              </a:rPr>
              <a:t>YOUR WAY 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Content Placeholder 9" descr="Joshy, Heather, and Brandyn and Mommy (Brandyn's Grad) 262.jpg"/>
          <p:cNvPicPr/>
          <p:nvPr/>
        </p:nvPicPr>
        <p:blipFill>
          <a:blip r:embed="rId1"/>
          <a:stretch/>
        </p:blipFill>
        <p:spPr>
          <a:xfrm>
            <a:off x="3575160" y="2259000"/>
            <a:ext cx="5111640" cy="34066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ferences</a:t>
            </a:r>
            <a:br>
              <a:rPr sz="3600"/>
            </a:b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apirci, O., Cattani, A., Rossini, P., &amp; Volterra, V. (1998). Teaching sign language to hearing children as a possible factor in cognitive enhancement.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Journal of Deaf Studies and Deaf Education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(2), 135-142. Retrieved from http://web.ebscohost.com/ehost/detail?vid=6&amp;hid=16&amp;sid=d0cdaa9b-a001-45e7-a536-bbea176eb2be%40SRCSM1&amp;bdata=JnNpdGU9ZWhvc3QtbGl2ZQ%3d%3d#db=psyh&amp;AN=2000-02524-00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ourtin, C. (2000). .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Sign language and cognitive flexibility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19-30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aniels, M. (2004). Happy Hands:  The Effect of ASL on Hearing Children’s Literacy. ,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Reading Research and Instruction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86-100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arson, B. C., &amp; Chang, J. I. (2007). Enhancing Hearing Children’s Memory With American Sign Language.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Intervention in School &amp; Clinic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42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239-242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oveda, D., Pulido, L., Morgade, M., Messina, C., &amp; Hedlova, Z. (2008). Storytelling with Sigh Language Interpretaton as a Mulimodal Literacy Event:  Implications for Deaf and Hearing Children.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Language &amp; Education:  An International Journal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22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320-342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21b2c9"/>
                </a:solidFill>
                <a:latin typeface="Curlz MT"/>
              </a:rPr>
              <a:t>Sign and Young Childre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8" name="Content Placeholder 3" descr="Joshy, Heather, and Brandyn and Mommy (Brandyn's Grad) 016.jpg"/>
          <p:cNvPicPr/>
          <p:nvPr/>
        </p:nvPicPr>
        <p:blipFill>
          <a:blip r:embed="rId1"/>
          <a:stretch/>
        </p:blipFill>
        <p:spPr>
          <a:xfrm>
            <a:off x="1279440" y="1935000"/>
            <a:ext cx="6585120" cy="43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urlz MT"/>
              </a:rPr>
              <a:t>Signing for Hearing Children</a:t>
            </a:r>
            <a:br>
              <a:rPr sz="4000"/>
            </a:br>
            <a:r>
              <a:rPr b="1" lang="en-US" sz="4000" spc="-1" strike="noStrike">
                <a:solidFill>
                  <a:srgbClr val="04617b"/>
                </a:solidFill>
                <a:latin typeface="Curlz MT"/>
              </a:rPr>
              <a:t>Benefit or Not?  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3504960"/>
            <a:ext cx="8686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9b74"/>
                </a:solidFill>
                <a:latin typeface="Comic Sans MS"/>
              </a:rPr>
              <a:t>In 1997 a deaf teacher, used sign language while teaching her kindergarten cla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9b74"/>
                </a:solidFill>
                <a:latin typeface="Comic Sans MS"/>
              </a:rPr>
              <a:t>These children had normal hear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9b74"/>
                </a:solidFill>
                <a:latin typeface="Comic Sans MS"/>
              </a:rPr>
              <a:t>The research for this study was based on this mod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TextBox 6"/>
          <p:cNvSpPr/>
          <p:nvPr/>
        </p:nvSpPr>
        <p:spPr>
          <a:xfrm>
            <a:off x="914400" y="1523880"/>
            <a:ext cx="76960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18a23"/>
                </a:solidFill>
                <a:latin typeface="Arial"/>
              </a:rPr>
              <a:t>Research Signing Study #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18a23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18a23"/>
                </a:solidFill>
                <a:latin typeface="Arial"/>
              </a:rPr>
              <a:t>Happy Hands. . .” art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00000"/>
                </a:solidFill>
                <a:latin typeface="Curlz MT"/>
              </a:rPr>
              <a:t>#1 Signing Study Resul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190800" indent="-1908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90800" indent="-1908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mic Sans MS"/>
              </a:rPr>
              <a:t>Kindergarten students receiving ASL (American Sign Language) made statistically significant gains in their English vocabula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0800" indent="-1908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0800" indent="-1908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mic Sans MS"/>
              </a:rPr>
              <a:t>Increased receptive vocabulary ski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0800" indent="-1908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0800" indent="-1908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mic Sans MS"/>
              </a:rPr>
              <a:t>Increased expressive vocabulary ski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0800" indent="-1908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0800" indent="-1908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mic Sans MS"/>
              </a:rPr>
              <a:t>Tested higher than similar students on reading placement measu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0800" indent="-19080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90800" indent="-190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90800" indent="-190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9b74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90800" indent="-190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9b74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90800" indent="-190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90800" indent="-190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90800" indent="-190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1523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18a23"/>
                </a:solidFill>
                <a:latin typeface="Arial"/>
                <a:ea typeface="Arial"/>
              </a:rPr>
              <a:t>Research Signing Study #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18a23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f18a23"/>
                </a:solidFill>
                <a:latin typeface="Arial"/>
                <a:ea typeface="Arial"/>
              </a:rPr>
              <a:t>Teaching Sign. . .” artic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Content Placeholder 2"/>
          <p:cNvSpPr/>
          <p:nvPr/>
        </p:nvSpPr>
        <p:spPr>
          <a:xfrm>
            <a:off x="457200" y="3352680"/>
            <a:ext cx="8686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9b74"/>
                </a:solidFill>
                <a:latin typeface="Comic Sans MS"/>
              </a:rPr>
              <a:t>Two year experiment involving two groups of hearing children in the 1</a:t>
            </a:r>
            <a:r>
              <a:rPr b="0" lang="en-US" sz="2400" spc="-1" strike="noStrike" baseline="30000">
                <a:solidFill>
                  <a:srgbClr val="0c9b74"/>
                </a:solidFill>
                <a:latin typeface="Comic Sans MS"/>
              </a:rPr>
              <a:t>st</a:t>
            </a:r>
            <a:r>
              <a:rPr b="0" lang="en-US" sz="2400" spc="-1" strike="noStrike">
                <a:solidFill>
                  <a:srgbClr val="0c9b74"/>
                </a:solidFill>
                <a:latin typeface="Comic Sans MS"/>
              </a:rPr>
              <a:t> and 2</a:t>
            </a:r>
            <a:r>
              <a:rPr b="0" lang="en-US" sz="2400" spc="-1" strike="noStrike" baseline="30000">
                <a:solidFill>
                  <a:srgbClr val="0c9b74"/>
                </a:solidFill>
                <a:latin typeface="Comic Sans MS"/>
              </a:rPr>
              <a:t>nd</a:t>
            </a:r>
            <a:r>
              <a:rPr b="0" lang="en-US" sz="2400" spc="-1" strike="noStrike">
                <a:solidFill>
                  <a:srgbClr val="0c9b74"/>
                </a:solidFill>
                <a:latin typeface="Comic Sans MS"/>
              </a:rPr>
              <a:t> g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9b74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9b74"/>
                </a:solidFill>
                <a:latin typeface="Comic Sans MS"/>
              </a:rPr>
              <a:t>One group attended sign language classes, while the other did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9b74"/>
                </a:solidFill>
                <a:latin typeface="Comic Sans MS"/>
              </a:rPr>
              <a:t>Tests were administered at the beginning and end of each school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14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urlz MT"/>
              </a:rPr>
              <a:t>Signing for Hearing Children</a:t>
            </a:r>
            <a:br>
              <a:rPr sz="4000"/>
            </a:br>
            <a:r>
              <a:rPr b="1" lang="en-US" sz="4000" spc="-1" strike="noStrike">
                <a:solidFill>
                  <a:srgbClr val="04617b"/>
                </a:solidFill>
                <a:latin typeface="Curlz MT"/>
              </a:rPr>
              <a:t>Benefit or Not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>
    <p:dissolve/>
    <p:sndAc>
      <p:stSnd>
        <p:snd r:embed="rId1" name="bomb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00000"/>
                </a:solidFill>
                <a:latin typeface="Curlz MT"/>
              </a:rPr>
              <a:t>#2 Signing Study Resul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2437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mic Sans MS"/>
              </a:rPr>
              <a:t>Students in the sign language classes performed better than those in the other grou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mic Sans MS"/>
              </a:rPr>
              <a:t>Results suggest that learning sign language may lead to cognitive advancement in hearing childr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514080"/>
            <a:ext cx="800100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Comic Sans MS"/>
              </a:rPr>
              <a:t>Parent Concerns </a:t>
            </a:r>
            <a:br>
              <a:rPr sz="4000"/>
            </a:br>
            <a:r>
              <a:rPr b="0" lang="en-US" sz="4000" spc="-1" strike="noStrike">
                <a:solidFill>
                  <a:srgbClr val="002060"/>
                </a:solidFill>
                <a:latin typeface="Comic Sans MS"/>
              </a:rPr>
              <a:t>Valid or Not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Content Placeholder 3" descr="IMG_6804.JPG"/>
          <p:cNvPicPr/>
          <p:nvPr/>
        </p:nvPicPr>
        <p:blipFill>
          <a:blip r:embed="rId1"/>
          <a:stretch/>
        </p:blipFill>
        <p:spPr>
          <a:xfrm>
            <a:off x="4530600" y="2895480"/>
            <a:ext cx="3546720" cy="236376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3962520" cy="43434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d44c22"/>
                </a:solidFill>
                <a:latin typeface="Comic Sans MS"/>
              </a:rPr>
              <a:t>Parents of hearing children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44c22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d44c22"/>
                </a:solidFill>
                <a:latin typeface="Comic Sans MS"/>
              </a:rPr>
              <a:t>are concerned about using sign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44c22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d44c22"/>
                </a:solidFill>
                <a:latin typeface="Comic Sans MS"/>
              </a:rPr>
              <a:t>language with their young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44c22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d44c22"/>
                </a:solidFill>
                <a:latin typeface="Comic Sans MS"/>
              </a:rPr>
              <a:t>children for fear they will no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44c22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d44c22"/>
                </a:solidFill>
                <a:latin typeface="Comic Sans MS"/>
              </a:rPr>
              <a:t>learn to speak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44c22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d44c22"/>
                </a:solidFill>
                <a:latin typeface="Comic Sans MS"/>
              </a:rPr>
              <a:t>Parents of special need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44c22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d44c22"/>
                </a:solidFill>
                <a:latin typeface="Comic Sans MS"/>
              </a:rPr>
              <a:t>children (autism, speec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44c22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d44c22"/>
                </a:solidFill>
                <a:latin typeface="Comic Sans MS"/>
              </a:rPr>
              <a:t>delays, etc), have similar fear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omic Sans MS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  <p:sndAc>
      <p:stSnd>
        <p:snd r:embed="rId2" name="push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nterviews </a:t>
            </a:r>
            <a:br>
              <a:rPr sz="4000"/>
            </a:b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rofessionals and Parent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2209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omic Sans MS"/>
              </a:rPr>
              <a:t>Education Specialist of preschoolers in San Bernardino, CA, states that special needs children  who have little or no speech learn to communicate with language much faster when using sign languag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omic Sans MS"/>
              </a:rPr>
              <a:t>Early Childhood Teacher in Fontana, CA, uses sign on a regular basis in her special needs class.  She addresses parents concerns;  telling them that using sign will help “connect” the bridge from talking with their hands to talking with their word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omic Sans MS"/>
              </a:rPr>
              <a:t>One mom used sign with her 8 month old to teach him to say, “more”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omic Sans MS"/>
              </a:rPr>
              <a:t>Another mom used the “All done” sign to stop the “flinging food” syndrome with her 7 month ol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1066680"/>
            <a:ext cx="853452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     </a:t>
            </a:r>
            <a:r>
              <a:rPr b="0" lang="en-US" sz="5000" spc="-1" strike="noStrike">
                <a:solidFill>
                  <a:srgbClr val="04617b"/>
                </a:solidFill>
                <a:latin typeface="Curlz MT"/>
              </a:rPr>
              <a:t>Presenter’s Experience</a:t>
            </a:r>
            <a:br>
              <a:rPr sz="5000"/>
            </a:br>
            <a:br>
              <a:rPr sz="1800"/>
            </a:br>
            <a:r>
              <a:rPr b="1" lang="en-US" sz="1800" spc="-1" strike="noStrike">
                <a:solidFill>
                  <a:srgbClr val="d44c22"/>
                </a:solidFill>
                <a:latin typeface="Calibri"/>
              </a:rPr>
              <a:t>P</a:t>
            </a:r>
            <a:r>
              <a:rPr b="0" lang="en-US" sz="1800" spc="-1" strike="noStrike">
                <a:solidFill>
                  <a:srgbClr val="d44c22"/>
                </a:solidFill>
                <a:latin typeface="Comic Sans MS"/>
              </a:rPr>
              <a:t>reschoolers and Kindergartners are attentive </a:t>
            </a:r>
            <a:br>
              <a:rPr sz="1800"/>
            </a:br>
            <a:r>
              <a:rPr b="0" lang="en-US" sz="1800" spc="-1" strike="noStrike">
                <a:solidFill>
                  <a:srgbClr val="d44c22"/>
                </a:solidFill>
                <a:latin typeface="Comic Sans MS"/>
              </a:rPr>
              <a:t>for a 45 minute presentation;  normal is about 20 minutes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d44c22"/>
                </a:solidFill>
                <a:latin typeface="Comic Sans MS"/>
              </a:rPr>
              <a:t>Teachers attribute good behavior during presentation to the simultaneous use of several of the five senses (sight, sound, touch or movement)</a:t>
            </a:r>
            <a:br>
              <a:rPr sz="2400"/>
            </a:br>
            <a:r>
              <a:rPr b="0" lang="en-US" sz="2400" spc="-1" strike="noStrike">
                <a:solidFill>
                  <a:srgbClr val="d44c22"/>
                </a:solidFill>
                <a:latin typeface="Comic Sans MS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Content Placeholder 3" descr="CATKON5H.jpg"/>
          <p:cNvPicPr/>
          <p:nvPr/>
        </p:nvPicPr>
        <p:blipFill>
          <a:blip r:embed="rId1"/>
          <a:stretch/>
        </p:blipFill>
        <p:spPr>
          <a:xfrm>
            <a:off x="2743200" y="3733920"/>
            <a:ext cx="4314960" cy="2895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2" name="typ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21:40:35Z</dcterms:created>
  <dc:creator> </dc:creator>
  <dc:description/>
  <dc:language>en-US</dc:language>
  <cp:lastModifiedBy> </cp:lastModifiedBy>
  <dcterms:modified xsi:type="dcterms:W3CDTF">2008-12-06T21:40:55Z</dcterms:modified>
  <cp:revision>23</cp:revision>
  <dc:subject/>
  <dc:title>Sign Language Benefits  in the Education of Young Children</dc:title>
</cp:coreProperties>
</file>